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53F52-F64C-4986-9606-0565F29832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7202E-6DB1-45FB-A569-A4CE791B9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8FC35-63E6-49BD-AD81-B18C9B08F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9159B-29A0-44A9-BE6C-4DA544E626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6E7C-E67F-4F67-BD9C-AB066B8248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72C08-A65E-44C0-86C1-16EC9C0FB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F206D-219A-4B8E-820A-C95A5ADC8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48362-291A-4E55-8829-73F41FA6E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E2050-0738-4804-84C1-1E330E084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663BA-ECCA-44D0-BB06-3E8865BD6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8DFA8-869F-4418-BA2F-A4DC9B5E6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2E184-30EF-41CC-A883-7E4A913F1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0" y="624852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9408-343E-42BF-AB34-D3F9C5C57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0" r="0" b="24067"/>
          <a:stretch/>
        </p:blipFill>
        <p:spPr>
          <a:xfrm>
            <a:off x="8429760" y="6267600"/>
            <a:ext cx="384120" cy="3841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04920" y="6243480"/>
            <a:ext cx="8547120" cy="0"/>
          </a:xfrm>
          <a:prstGeom prst="line">
            <a:avLst/>
          </a:prstGeom>
          <a:ln w="19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325000" y="6583320"/>
            <a:ext cx="74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AEE  - Departamento de Águas e Energia Elétrica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o Estado de São Paulo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br>
              <a:rPr sz="3200"/>
            </a:b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EXIGÊNCIAS PARA APRESENTAÇÃ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 DE ESTUDOS E PROJETOS DE OBRAS HIDRÁULICA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vantGarde Bk BT"/>
              </a:rPr>
              <a:t>A SEREM OUTORG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Metodologias, critérios e parâmetros em hidrologia e hidráu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72428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PO -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retoria de Procedimentos de Outorga e Fiscal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8680" y="5334120"/>
            <a:ext cx="686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Leila de C. Gomes,  Mario Nakashima  e  Francisco Gu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1F347-F70B-4729-B057-824B3B9C9B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30040" y="15228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isponibilidade Hídric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971800" y="304920"/>
            <a:ext cx="5791320" cy="121896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Casos em que há      </a:t>
            </a:r>
            <a:r>
              <a:rPr b="1" lang="pt-BR" sz="3600" spc="-1" strike="noStrike">
                <a:solidFill>
                  <a:srgbClr val="ffffff"/>
                </a:solidFill>
                <a:latin typeface="Arial Narrow"/>
              </a:rPr>
              <a:t>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- Captação / Deriv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371600"/>
            <a:ext cx="6553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ter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=  média de longo ter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7,10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= mínima média de 7 dias e TR= 10 an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P%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=  curva de permanência de vaz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505320"/>
            <a:ext cx="57150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Mínima remanescente para jusante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barramento ou da seção de capt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mín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50%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7,10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48769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4267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gionaliz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A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5257800"/>
            <a:ext cx="70102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etodologia: série históric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25 anos                     Estatí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érie histórica &lt; 25 anos                     Regionalização DA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4191120" y="5562720"/>
            <a:ext cx="914400" cy="366480"/>
            <a:chOff x="4191120" y="5562720"/>
            <a:chExt cx="914400" cy="366480"/>
          </a:xfrm>
        </p:grpSpPr>
        <p:sp>
          <p:nvSpPr>
            <p:cNvPr id="134" name=""/>
            <p:cNvSpPr/>
            <p:nvPr/>
          </p:nvSpPr>
          <p:spPr>
            <a:xfrm>
              <a:off x="4191120" y="5562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91120" y="59292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03BFD-C483-4F20-A41A-D987CFA4BB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30040" y="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vantGarde Bk BT"/>
              </a:rPr>
              <a:t>Conteúdo Mínimo -  VAZÃO DE ENCHENTE DE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1371600"/>
            <a:ext cx="403884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orde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Área de dren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etod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cl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empo de concentraç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eficiente de escoamento superf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eríodo de Ret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tensidade da chuva cr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azão de enchente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idrograma e seu volu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62480" y="1371600"/>
            <a:ext cx="44956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esen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: bacia de contribuiçã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imites divisor; hidrograf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alvegue; locação seção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   e/ou   aerofoto / image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cupação dos solos da bac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ipos de so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erfil longitudinal do talve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005FD-4B8F-4FE7-A0DA-544CE4C5B2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0040" y="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vantGarde Bk BT"/>
              </a:rPr>
              <a:t>Conteúdo Mínimo -  DISPONIBILIDADE HÍDRICA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371600"/>
            <a:ext cx="69339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etod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cipitação total anual mé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azão média de longo ter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7,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urva de Permanência de vaz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aptação: vazão nominal; vazão média; faixa de vazões (UH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alanço: disponibilidade afluente; mínima remanesc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gularização pelo reservató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C82FD-5149-488A-9959-1E301ADF58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14600" y="152280"/>
            <a:ext cx="3124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320" y="91440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Borda Livre (f) – valores mínimos a serem ad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3809880"/>
            <a:ext cx="8305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Revestidas (aberta ou fechada), gabião, pedra argamassada, concr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      </a:t>
            </a: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e similares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...............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0,20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, para  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,5 m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                    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...............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0,15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, para  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,5 m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, com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0,3 m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334120"/>
            <a:ext cx="678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lâmina d’água correspondente à vazão de projeto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280" y="1600200"/>
            <a:ext cx="8001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arragens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.......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0% da altura do maciço, com 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0,5 m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25146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naliz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30481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Trapezoidal, em terra ou grama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.........................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E5AB7-CD98-48C7-8DCC-4744D8A8A6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14600" y="150840"/>
            <a:ext cx="3124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520" y="912960"/>
            <a:ext cx="88394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Borda Livre (f) – valores mínimos a serem ado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31240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vantGarde Bk BT"/>
              </a:rPr>
              <a:t>Intermediá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Galerias ...........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</a:rPr>
              <a:t> idem anterior – canalizações revestidas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Bueiros  ........... para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W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,2 D  - - - 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0%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W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, com 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0,3 m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4724280"/>
            <a:ext cx="5562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1" lang="pt-BR" sz="2000" spc="-1" strike="noStrike" baseline="-25000">
                <a:solidFill>
                  <a:srgbClr val="000000"/>
                </a:solidFill>
                <a:latin typeface="Arial Narrow"/>
              </a:rPr>
              <a:t>W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= lâmina d’água a montante da entrada do bueir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medida a partir da geratriz inferior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6002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raves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213372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Aéreas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(pontes): curso d’água natural .... .......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10% 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    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canalização ..........................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em anterior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5818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= diâmetro interno do bu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D53F3-4672-4EB1-BB2E-26BF2E6761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514600" y="150840"/>
            <a:ext cx="3124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520" y="914400"/>
            <a:ext cx="88394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vantGarde Bk BT"/>
              </a:rPr>
              <a:t>Rugosidade “n” – valores recomend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905120" y="1600200"/>
          <a:ext cx="4800600" cy="4073400"/>
        </p:xfrm>
        <a:graphic>
          <a:graphicData uri="http://schemas.openxmlformats.org/drawingml/2006/table">
            <a:tbl>
              <a:tblPr/>
              <a:tblGrid>
                <a:gridCol w="3047760"/>
                <a:gridCol w="175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po de Revesti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er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ra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ch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abi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edra argamassa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ço corru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ncreto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,0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838080" y="5791320"/>
            <a:ext cx="7391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* Valores inferiores: compromisso do usuário na manutenção de “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9741E-6BD5-4972-AF58-7793DFE016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30040" y="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onteúdo Mínimo    -        CANALIZ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1371600"/>
            <a:ext cx="40388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tens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cl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vestimento -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ão geométrica: dimens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orda li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âmina d’água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locidade para a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rificação dos efeitos da canalização a montante e a jusante do trecho projetado: NA, V, 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ssipação de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1371600"/>
            <a:ext cx="44956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Desen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Planta: planialtimetria; implantação, 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o  traçado geométr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Seções transversais topobatimétricas, 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indicação da seção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Perfil longitudinal: ME, MD, fundo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fundo projetado; linha d’água proj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Seção tipo do canal proje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EBE12-BED3-41F6-8129-2CA59DCB02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30040" y="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onteúdo Mínimo    -        TRAVES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1371600"/>
            <a:ext cx="403884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tens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cliv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vestimento -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ão geométrica do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ão geométrica da traves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orda li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âmina d’água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locidade para a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rificação dos efeitos para montante e jusante da travessia: NA, V, Q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ssipação de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1371600"/>
            <a:ext cx="44956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esen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: planialtimetria; implant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ões transversais topobatimétric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indicação da seção de pro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erfil longitudinal: ME, MD, fundo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undo projetado; linha d’água Q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ção da travessia: gabar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88A7C-67EE-4E6D-9256-B456D9077C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30040" y="0"/>
            <a:ext cx="7239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ÁUL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onteúdo Mínimo    -        BARR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440" y="1066680"/>
            <a:ext cx="419112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Memorial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ipo de vertedor e soleir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urva cota x área x volume do reservató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finição dos níveis operacionais: mínimo, máximo e 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orda li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mortecimento da cheia: vazão máxima deflu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mensões do vertedor de superfíc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urvas de descarga das estruturas hidráulic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ssipação de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scarregador de fu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57880" y="1371600"/>
            <a:ext cx="449568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Desen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: planialtimetria; arranjo ge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 da área de inundação: ind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os proprietários rebeirinh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tas, cortes e detalhes: maciço 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struturas hidrául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191120"/>
            <a:ext cx="259056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P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gras oper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o de conting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lano de emergê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A43C6-A3B3-410B-9204-B03ECFD98B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4920" y="228600"/>
            <a:ext cx="8458200" cy="1066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ritérios para verificação de obras hidráu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vantGarde Bk BT"/>
              </a:rPr>
              <a:t>e x i s t e n t e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3520" y="419112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DAEE poderá condicionar a outorga a adequações e/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a ações ou medidas estruturais e não estruturai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3200400"/>
            <a:ext cx="1143000" cy="152280"/>
          </a:xfrm>
          <a:prstGeom prst="rightArrow">
            <a:avLst>
              <a:gd name="adj1" fmla="val 50000"/>
              <a:gd name="adj2" fmla="val 18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3062160"/>
            <a:ext cx="2514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  T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30099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TR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25 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286000"/>
            <a:ext cx="716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=  capacidade máxima de descarga 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(para f = 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1690560"/>
            <a:ext cx="539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CANALIZAÇÕES E TRAVESS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037D6-DC56-4FA8-938C-670EB598DA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30040" y="0"/>
            <a:ext cx="2438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Narrow"/>
              </a:rPr>
              <a:t>Motiv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umento do nº de outorgas (Decreto 41258/9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dministração descentralizada do DA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sparidade de critérios, metodologias, parâmetros utilizados pelos projet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aixa qualidade dos estudos e projetos apresent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bsolescência precoce das obras hidráu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bras de pequeno porte (maior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estão compartilhada: DAEE, Cetesb, Meio Ambiente, Saú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518148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Demanda: uniformização de instruções de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351ED-CC53-4628-809E-9FFB2E1EA7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04920" y="228600"/>
            <a:ext cx="8458200" cy="1066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Critérios para verificação de obras hidrául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vantGarde Bk BT"/>
              </a:rPr>
              <a:t>e x i s t e n t e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1337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= Q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 Narrow"/>
              </a:rPr>
              <a:t>TR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=  capacidade máxima de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par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R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estipulados pelo DAEE (idem projeto)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429000"/>
            <a:ext cx="7162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Narrow"/>
              </a:rPr>
              <a:t>Diferença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= 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estimada para C (C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lativo às condições atuais de ocup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4952880"/>
            <a:ext cx="6629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* risco maior – ondas de cheia catastró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33720" y="1690560"/>
            <a:ext cx="539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BARRAM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1D160-F512-4A92-9FEC-618D494033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66680" y="3809880"/>
            <a:ext cx="624852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Anex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latório foto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étodo ex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onograma físico das obras e servi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304920"/>
            <a:ext cx="563904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vantGarde Bk BT"/>
              </a:rPr>
              <a:t>Informações Complement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1371600"/>
            <a:ext cx="624852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Int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nalidade do empreendimento ou obra hidráu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racterísticas técnicas ge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lanta(s) de localização regional e a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C3757-A2F6-44F6-8E1D-95B3FF700F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15048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320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Vazão de ench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267080"/>
            <a:ext cx="3962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Disponibilidade híd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de superfíc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1676520"/>
            <a:ext cx="4343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scoamento 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íodo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mpo de Concent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ensidade da chuva de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14479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4495680"/>
            <a:ext cx="2667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zão de refer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7,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E50FE-4F55-4DB3-90BC-AC6EC5A67A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0"/>
            <a:ext cx="2741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76520" y="501480"/>
            <a:ext cx="221004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Metodolog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67080" y="1600200"/>
            <a:ext cx="2438280" cy="1295280"/>
          </a:xfrm>
          <a:prstGeom prst="flowChartDecision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2251080"/>
            <a:ext cx="1600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2251080"/>
            <a:ext cx="0" cy="762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43800" y="3063960"/>
            <a:ext cx="1488960" cy="463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Estat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08280" y="2244600"/>
            <a:ext cx="1600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8280" y="2244600"/>
            <a:ext cx="0" cy="7621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63520" y="3027240"/>
            <a:ext cx="1295640" cy="463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Indi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29000" y="4059360"/>
            <a:ext cx="1119240" cy="1031760"/>
          </a:xfrm>
          <a:prstGeom prst="flowChartDecision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436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Á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114300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350532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4578480"/>
            <a:ext cx="6858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090960" y="3664080"/>
            <a:ext cx="0" cy="3808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90960" y="3664080"/>
            <a:ext cx="914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05000" y="5111640"/>
            <a:ext cx="0" cy="4572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05000" y="5568840"/>
            <a:ext cx="9144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3429000"/>
            <a:ext cx="1489320" cy="463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05240" y="4621320"/>
            <a:ext cx="1752840" cy="838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S.C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Abc6 ou Cab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3270240"/>
            <a:ext cx="1295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2 km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05200" y="5175360"/>
            <a:ext cx="12952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Symbol"/>
                <a:ea typeface="Symbol"/>
              </a:rPr>
              <a:t>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 Narrow"/>
              </a:rPr>
              <a:t>2 km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19400" y="5029200"/>
            <a:ext cx="0" cy="8380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19400" y="5029200"/>
            <a:ext cx="1143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38480" y="586728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38520" y="5632560"/>
            <a:ext cx="3319560" cy="4633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I-Pai-Wu   </a:t>
            </a:r>
            <a:r>
              <a:rPr b="0" lang="pt-BR" sz="2000" spc="-1" strike="noStrike">
                <a:solidFill>
                  <a:srgbClr val="3333cc"/>
                </a:solidFill>
                <a:latin typeface="Arial Narrow"/>
              </a:rPr>
              <a:t>(2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</a:t>
            </a:r>
            <a:r>
              <a:rPr b="0" lang="pt-BR" sz="2000" spc="-1" strike="noStrike">
                <a:solidFill>
                  <a:srgbClr val="3333cc"/>
                </a:solidFill>
                <a:latin typeface="Arial Narrow"/>
              </a:rPr>
              <a:t> A </a:t>
            </a:r>
            <a:r>
              <a:rPr b="0" lang="pt-BR" sz="20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0" lang="pt-BR" sz="2000" spc="-1" strike="noStrike">
                <a:solidFill>
                  <a:srgbClr val="3333cc"/>
                </a:solidFill>
                <a:latin typeface="Arial Narrow"/>
              </a:rPr>
              <a:t> 200 km²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800360" y="1793880"/>
            <a:ext cx="5749920" cy="862560"/>
            <a:chOff x="1800360" y="1793880"/>
            <a:chExt cx="5749920" cy="862560"/>
          </a:xfrm>
        </p:grpSpPr>
        <p:sp>
          <p:nvSpPr>
            <p:cNvPr id="84" name=""/>
            <p:cNvSpPr/>
            <p:nvPr/>
          </p:nvSpPr>
          <p:spPr>
            <a:xfrm>
              <a:off x="1800360" y="1869840"/>
              <a:ext cx="1295640" cy="46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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 Narrow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 Narrow"/>
                </a:rPr>
                <a:t>25 an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969000" y="1793880"/>
              <a:ext cx="3581280" cy="862560"/>
              <a:chOff x="3969000" y="1793880"/>
              <a:chExt cx="3581280" cy="862560"/>
            </a:xfrm>
          </p:grpSpPr>
          <p:sp>
            <p:nvSpPr>
              <p:cNvPr id="86" name=""/>
              <p:cNvSpPr/>
              <p:nvPr/>
            </p:nvSpPr>
            <p:spPr>
              <a:xfrm>
                <a:off x="3969000" y="1793880"/>
                <a:ext cx="137160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Extensã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 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dos dad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55000" y="1869840"/>
                <a:ext cx="1295280" cy="46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Symbol"/>
                    <a:ea typeface="Symbol"/>
                  </a:rPr>
                  <a:t>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 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Arial Narrow"/>
                  </a:rPr>
                  <a:t>25 an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AD416-8C4F-47BA-A359-5408DFD6EC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1295280"/>
            <a:ext cx="411480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Escoamento  Superfi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2209680"/>
            <a:ext cx="167652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C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0,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10080" y="2209680"/>
            <a:ext cx="167652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CN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971800"/>
            <a:ext cx="2666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ituação A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a B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76400" y="2971800"/>
            <a:ext cx="594360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Considerar tipo, uso e ocupação dos so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Base de informação: carta 1:50.000; 1: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       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foto aé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             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imagem saté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410080"/>
            <a:ext cx="2666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álculo de Q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5403960"/>
            <a:ext cx="594360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tilizar previsão da ocupação futura da ba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6EC83-AC33-48E0-974C-9CA0F879C23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380880"/>
            <a:ext cx="434340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Período de Retorno - 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362320"/>
            <a:ext cx="48006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H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5 m  e   L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15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48200" y="1600200"/>
            <a:ext cx="190512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TR (a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276200"/>
            <a:ext cx="213336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Barra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3124080"/>
            <a:ext cx="480060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5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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H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10 m  e   L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3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886200"/>
            <a:ext cx="48006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10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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H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20 m  e   L </a:t>
            </a:r>
            <a:r>
              <a:rPr b="1" lang="pt-BR" sz="3200" spc="-1" strike="noStrike">
                <a:solidFill>
                  <a:srgbClr val="3333cc"/>
                </a:solidFill>
                <a:latin typeface="Symbol"/>
                <a:ea typeface="Symbol"/>
              </a:rPr>
              <a:t></a:t>
            </a:r>
            <a:r>
              <a:rPr b="1" lang="pt-BR" sz="3200" spc="-1" strike="noStrike">
                <a:solidFill>
                  <a:srgbClr val="3333cc"/>
                </a:solidFill>
                <a:latin typeface="Arial Narrow"/>
              </a:rPr>
              <a:t> 5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4648320"/>
            <a:ext cx="48006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H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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20 m  ou   L </a:t>
            </a: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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500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848200" y="2362320"/>
            <a:ext cx="190512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48200" y="3124080"/>
            <a:ext cx="190512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48200" y="3886200"/>
            <a:ext cx="190512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1.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48200" y="4648320"/>
            <a:ext cx="289584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10.000 ou P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88916-7D7B-4571-9E73-4D641DEC9A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380880"/>
            <a:ext cx="4343400" cy="6098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Período de Retorno - T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1219320"/>
            <a:ext cx="24382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R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100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219320"/>
            <a:ext cx="518148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Canalização, Travessia, Buei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2666880"/>
            <a:ext cx="2438280" cy="6098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R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25 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18160" y="13795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200400"/>
            <a:ext cx="25909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DA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poderá acei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4343400"/>
            <a:ext cx="6005520" cy="1828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ueiro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(estradas)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rural / sem interfer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 regime livre [2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- verificar inundação a montante para TR = 10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anuência proprietári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2077920"/>
            <a:ext cx="5410080" cy="990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Rural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– pequeno 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            – 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erificação eventos + crí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33560" y="3137040"/>
            <a:ext cx="600552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 Narrow"/>
              </a:rPr>
              <a:t>Área urbanização densa:</a:t>
            </a:r>
            <a:r>
              <a:rPr b="1" lang="en-US" sz="3200" spc="-1" strike="noStrike">
                <a:solidFill>
                  <a:srgbClr val="9933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 0,75 </a:t>
            </a:r>
            <a:r>
              <a:rPr b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 C </a:t>
            </a:r>
            <a:r>
              <a:rPr b="1" lang="en-US" sz="2400" spc="-1" strike="noStrike">
                <a:solidFill>
                  <a:srgbClr val="993300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 Narrow"/>
              </a:rPr>
              <a:t>rio confinado / edificações – adequação invi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19AD0-C714-46A1-B90F-42E820A2D5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14400"/>
            <a:ext cx="5486400" cy="6858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empo de Concentração - t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 Narrow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962520"/>
            <a:ext cx="79246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Arial Narrow"/>
              </a:rPr>
              <a:t>C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 (min) ................................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com   t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 Narrow"/>
              </a:rPr>
              <a:t>C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</a:rPr>
              <a:t> 10 min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 Narrow"/>
              </a:rPr>
              <a:t>[restrição IDF]</a:t>
            </a: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L (km)     = comprimento do talve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S (m/km) = declividade média </a:t>
            </a:r>
            <a:r>
              <a:rPr b="1" lang="pt-BR" sz="2800" spc="-1" strike="noStrike">
                <a:solidFill>
                  <a:srgbClr val="3333cc"/>
                </a:solidFill>
                <a:latin typeface="Arial Narrow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* DAEE aceita / recomenda uso da declividade equivalente - </a:t>
            </a:r>
            <a:r>
              <a:rPr b="1" lang="pt-BR" sz="2400" spc="-1" strike="noStrike">
                <a:solidFill>
                  <a:srgbClr val="3333cc"/>
                </a:solidFill>
                <a:latin typeface="Arial Narrow"/>
              </a:rPr>
              <a:t>S</a:t>
            </a:r>
            <a:r>
              <a:rPr b="1" lang="pt-BR" sz="2400" spc="-1" strike="noStrike" baseline="-25000">
                <a:solidFill>
                  <a:srgbClr val="3333cc"/>
                </a:solidFill>
                <a:latin typeface="Arial Narrow"/>
              </a:rPr>
              <a:t>e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1828800"/>
            <a:ext cx="647676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Expressão do   </a:t>
            </a:r>
            <a:r>
              <a:rPr b="1" i="1" lang="pt-BR" sz="2800" spc="-1" strike="noStrike">
                <a:solidFill>
                  <a:srgbClr val="000000"/>
                </a:solidFill>
                <a:latin typeface="Arial Narrow"/>
              </a:rPr>
              <a:t>California Culverts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265480" y="2438280"/>
                <a:ext cx="291600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0B880-FD77-43C4-8CAF-010A2AFA46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30040" y="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IDR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Vazão de Projeto (Q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 Narrow"/>
              </a:rPr>
              <a:t>P</a:t>
            </a:r>
            <a:r>
              <a:rPr b="1" lang="en-US" sz="2400" spc="-1" strike="noStrike">
                <a:solidFill>
                  <a:srgbClr val="3333cc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1143000"/>
            <a:ext cx="579096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tensidade da Chuva Crítica –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 Narrow"/>
              </a:rPr>
              <a:t>t,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209680"/>
            <a:ext cx="64008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Determinar por meio das equações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Intensidade – Duração – Freqüê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 Narrow"/>
              </a:rPr>
              <a:t>desenvolvidas pelo DAE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Arial Narrow"/>
              </a:rPr>
              <a:t>“</a:t>
            </a:r>
            <a:r>
              <a:rPr b="1" i="1" lang="pt-BR" sz="2800" spc="-1" strike="noStrike">
                <a:solidFill>
                  <a:srgbClr val="3333cc"/>
                </a:solidFill>
                <a:latin typeface="Arial Narrow"/>
              </a:rPr>
              <a:t>Equações de Chuvas Intens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3333cc"/>
                </a:solidFill>
                <a:latin typeface="Arial Narrow"/>
              </a:rPr>
              <a:t>do Estado de São Paulo – DAEE, 1999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 Narrow"/>
              </a:rPr>
              <a:t>           </a:t>
            </a:r>
            <a:r>
              <a:rPr b="1" lang="pt-BR" sz="2000" spc="-1" strike="noStrike">
                <a:solidFill>
                  <a:srgbClr val="3333cc"/>
                </a:solidFill>
                <a:latin typeface="Arial Narrow"/>
              </a:rPr>
              <a:t>www.sigrh.sp.gov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AEE - nov.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55170-4794-4E1E-9007-D4D18A5676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21:17:51Z</dcterms:created>
  <dc:creator>daee</dc:creator>
  <dc:description/>
  <dc:language>en-US</dc:language>
  <cp:lastModifiedBy>daee</cp:lastModifiedBy>
  <dcterms:modified xsi:type="dcterms:W3CDTF">2005-11-18T18:29:31Z</dcterms:modified>
  <cp:revision>46</cp:revision>
  <dc:subject/>
  <dc:title>DAEE  -  OUTORGA  EXIGÊNCIAS PARA APRESENTAÇÃO DE ESTUDOS E PROJETOS EM REQUERIMENTOS DE OUTORGA DE OBRAS HIDRÁULICAS</dc:title>
</cp:coreProperties>
</file>